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6E6D3D-1F25-4B28-9D96-C39FAFBB2D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E7A39C6E-1DCD-4110-889D-65ACA06A3E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34BE4B0A-0331-4276-82E7-0DF487EBFE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DE884ADE-B217-415F-ABA1-4B7AAA2F26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1AD47B05-8283-4BED-834E-F6BA3EA855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2ECBE458-CF81-4D52-9308-2DF6E4FDE2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2C70B8DB-AF9B-4860-A5AA-445A6A3356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A32DE9D8-1CF4-4CC7-9C32-90F1079B8B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29B8A32B-888A-4536-A583-433184E1D4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28D36C72-F0B3-40E7-9F5C-D5752AB354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61EEB07C-2E84-4EA3-ACC3-5A52EEA2F9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6FEA20A5-4DAD-4BEA-A02A-898463F9ED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265C8-2589-4DE8-8CFD-F1778669800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七章</a:t>
            </a:r>
            <a:r>
              <a:rPr b="0" lang="en-US" sz="4800" spc="-1" strike="noStrike">
                <a:solidFill>
                  <a:srgbClr val="ffffff"/>
                </a:solidFill>
                <a:latin typeface="华文新魏"/>
              </a:rPr>
              <a:t>  </a:t>
            </a:r>
            <a:r>
              <a:rPr b="0" lang="zh-CN" sz="4800" spc="-1" strike="noStrike">
                <a:solidFill>
                  <a:srgbClr val="ffffff"/>
                </a:solidFill>
                <a:latin typeface="华文新魏"/>
              </a:rPr>
              <a:t>外科感染患者的护理</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  白细胞计数和中性粒细胞比例增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液细菌培养 脓性分泌物可作涂片检查或作细菌培养，可明确致病菌种类</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卫生习惯、发病的季节、是否有糖尿病或服用免疫抑制剂等</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炎症消退</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可用热敷、超短波、红外线等理疗方法，也可将加油调成糊状的中药金黄散、玉露散或鱼石脂软膏敷在患处</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早排脓</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已出现脓头或有波动感者，在其顶部涂石炭酸或用针头、刀尖切开皮肤，加速脓栓脱落、脓液流出和局部病灶愈合，切忌挤压</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菌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出现发热、头痛，应用有效抗菌药治疗。有糖尿病者还应给予降糖药物或胰岛素治疗</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知识缺乏：缺乏预防疖发生的知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颅内化脓性海绵状静脉窦炎</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注意个人卫生，保持皮肤清洁，避免皮肤损伤</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a:t>
            </a:r>
            <a:r>
              <a:rPr b="0" lang="en-US" sz="3200" spc="-1" strike="noStrike">
                <a:solidFill>
                  <a:srgbClr val="046ca6"/>
                </a:solidFill>
                <a:latin typeface="华文新魏"/>
              </a:rPr>
              <a:t>  </a:t>
            </a:r>
            <a:r>
              <a:rPr b="0" lang="zh-CN" sz="3200" spc="-1" strike="noStrike">
                <a:solidFill>
                  <a:srgbClr val="046ca6"/>
                </a:solidFill>
                <a:latin typeface="华文新魏"/>
              </a:rPr>
              <a:t>保持疖周围皮肤清洁，避免挤压未成熟的疖，尤其是</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防止感染扩散。脓肿有波动感时，应及时切开引流，并在严格无菌操作下，及时更换敷料。遵医嘱及早合理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rPr>
              <a:t>二、痈</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痈（</a:t>
            </a:r>
            <a:r>
              <a:rPr b="0" lang="en-US" sz="3600" spc="-1" strike="noStrike">
                <a:solidFill>
                  <a:srgbClr val="046ca6"/>
                </a:solidFill>
                <a:latin typeface="华文新魏"/>
              </a:rPr>
              <a:t>carbuncle</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相邻的多个毛囊及其所属皮脂腺或汗腺的急性化脓性感染，好发于颈部、背部等皮肤厚韧部位，特点是有多个脓头，也可由多个疖融合而成，致病菌为金黄色葡萄球菌</a:t>
            </a:r>
            <a:endParaRPr b="0" lang="en-US" sz="32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起为红肿，红紫色，可见数个脓点，继之红肿扩大，脓点增大增多，界限不清，中央有多个脓栓，破溃后有多量脓液排出，中心处坏死塌陷如</a:t>
            </a:r>
            <a:r>
              <a:rPr b="0" lang="en-US" sz="2800" spc="-1" strike="noStrike">
                <a:solidFill>
                  <a:srgbClr val="046ca6"/>
                </a:solidFill>
                <a:latin typeface="华文新魏"/>
              </a:rPr>
              <a:t>“</a:t>
            </a:r>
            <a:r>
              <a:rPr b="0" lang="zh-CN" sz="2800" spc="-1" strike="noStrike">
                <a:solidFill>
                  <a:srgbClr val="046ca6"/>
                </a:solidFill>
                <a:latin typeface="华文新魏"/>
              </a:rPr>
              <a:t>火山口</a:t>
            </a:r>
            <a:r>
              <a:rPr b="0" lang="en-US" sz="2800" spc="-1" strike="noStrike">
                <a:solidFill>
                  <a:srgbClr val="046ca6"/>
                </a:solidFill>
                <a:latin typeface="华文新魏"/>
              </a:rPr>
              <a:t>”</a:t>
            </a:r>
            <a:r>
              <a:rPr b="0" lang="zh-CN" sz="2800" spc="-1" strike="noStrike">
                <a:solidFill>
                  <a:srgbClr val="046ca6"/>
                </a:solidFill>
                <a:latin typeface="华文新魏"/>
              </a:rPr>
              <a:t>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外科感染、脓毒症、菌血症的概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外科感染的分类及特点</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常见外科感染的临床表现及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外科特异性感染和非特异性感染的异同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外科感染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由于痈的创面较深较大，患者可担心病情难以控制，甚至合并全身性感染。唇痈者可担心会继发颅内化脓性海绵状静脉窦炎，甚至造成生命危险</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当休息，加强营养，选用有效抗菌药物。对糖尿病者应根据病情同时给予胰岛素和控制饮食等治疗</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处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与疖治疗相同。如红肿范围大，中央部坏死组织多或全身症状重，应作“</a:t>
            </a:r>
            <a:r>
              <a:rPr b="0" lang="en-US" sz="2800" spc="-1" strike="noStrike">
                <a:solidFill>
                  <a:srgbClr val="046ca6"/>
                </a:solidFill>
                <a:latin typeface="华文新魏"/>
              </a:rPr>
              <a:t>+</a:t>
            </a:r>
            <a:r>
              <a:rPr b="0" lang="zh-CN" sz="2800" spc="-1" strike="noStrike">
                <a:solidFill>
                  <a:srgbClr val="046ca6"/>
                </a:solidFill>
                <a:latin typeface="华文新魏"/>
              </a:rPr>
              <a:t>”</a:t>
            </a:r>
            <a:r>
              <a:rPr b="0" lang="zh-CN" sz="2800" spc="-1" strike="noStrike">
                <a:solidFill>
                  <a:srgbClr val="046ca6"/>
                </a:solidFill>
                <a:latin typeface="华文新魏"/>
              </a:rPr>
              <a:t>或“</a:t>
            </a:r>
            <a:r>
              <a:rPr b="0" lang="en-US" sz="2800" spc="-1" strike="noStrike">
                <a:solidFill>
                  <a:srgbClr val="046ca6"/>
                </a:solidFill>
                <a:latin typeface="华文新魏"/>
              </a:rPr>
              <a:t>++</a:t>
            </a:r>
            <a:r>
              <a:rPr b="0" lang="zh-CN" sz="2800" spc="-1" strike="noStrike">
                <a:solidFill>
                  <a:srgbClr val="046ca6"/>
                </a:solidFill>
                <a:latin typeface="华文新魏"/>
              </a:rPr>
              <a:t>”</a:t>
            </a:r>
            <a:r>
              <a:rPr b="0" lang="zh-CN" sz="2800" spc="-1" strike="noStrike">
                <a:solidFill>
                  <a:srgbClr val="046ca6"/>
                </a:solidFill>
                <a:latin typeface="华文新魏"/>
              </a:rPr>
              <a:t>形切口切开引流。但唇痈不宜采用</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病菌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炎症刺激有关</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热时采用物理降温或遵医嘱给予退热药物，并监测体温变化。疼痛严重者可遵医嘱给予止痛药。其他护理措施参见“疖”</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920" y="2276640"/>
            <a:ext cx="6337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三、急性蜂窝织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蜂窝织炎（</a:t>
            </a:r>
            <a:r>
              <a:rPr b="0" lang="en-US" sz="3600" spc="-1" strike="noStrike">
                <a:solidFill>
                  <a:srgbClr val="046ca6"/>
                </a:solidFill>
                <a:latin typeface="华文新魏"/>
              </a:rPr>
              <a:t>acute cellulite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发生在皮下，筋膜下、肌间隙或深部疏松结缔组织的急性感染。致病菌主要是溶血性链球菌</a:t>
            </a:r>
            <a:r>
              <a:rPr b="0" lang="en-US" sz="3200" spc="-1" strike="noStrike">
                <a:solidFill>
                  <a:srgbClr val="046ca6"/>
                </a:solidFill>
                <a:latin typeface="华文新魏"/>
              </a:rPr>
              <a:t>  </a:t>
            </a:r>
            <a:r>
              <a:rPr b="0" lang="zh-CN" sz="3200" spc="-1" strike="noStrike">
                <a:solidFill>
                  <a:srgbClr val="046ca6"/>
                </a:solidFill>
                <a:latin typeface="华文新魏"/>
              </a:rPr>
              <a:t>其次为金黄色葡萄球菌，亦可为大肠埃希菌或其他类型链球菌、厌氧性细菌。</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变表浅者，局部明显红肿、剧痛，病变区与正常皮肤无明显界线，病变中央常因缺血而发生坏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底、颌下和颈部的急性蜂窝织炎在小儿多见，可发生喉头水肿和压迫气管，引起呼吸困难窒息</a:t>
            </a:r>
            <a:endParaRPr b="0" lang="en-US" sz="28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有无皮肤损伤，或手、足等处的化脓性感染，是否受到过局部污染。其他参见“疖”</a:t>
            </a:r>
            <a:endParaRPr b="0" lang="en-US" sz="28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炎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患处应制动，用</a:t>
            </a:r>
            <a:r>
              <a:rPr b="0" lang="en-US" sz="2800" spc="-1" strike="noStrike">
                <a:solidFill>
                  <a:srgbClr val="046ca6"/>
                </a:solidFill>
                <a:latin typeface="华文新魏"/>
              </a:rPr>
              <a:t>50%</a:t>
            </a:r>
            <a:r>
              <a:rPr b="0" lang="zh-CN" sz="2800" spc="-1" strike="noStrike">
                <a:solidFill>
                  <a:srgbClr val="046ca6"/>
                </a:solidFill>
                <a:latin typeface="华文新魏"/>
              </a:rPr>
              <a:t>硫酸镁、黄金散或鱼石脂软膏等湿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脓肿形成则需切开引流</a:t>
            </a:r>
            <a:endParaRPr b="0" lang="en-US" sz="2800" spc="-1" strike="noStrike">
              <a:solidFill>
                <a:srgbClr val="046ca6"/>
              </a:solidFill>
              <a:latin typeface="华文新魏"/>
            </a:endParaRPr>
          </a:p>
          <a:p>
            <a:pPr lvl="2" marL="1143000" indent="-228600">
              <a:spcBef>
                <a:spcPts val="4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a:p>
            <a:pPr lvl="2" marL="1143000" indent="-228600">
              <a:spcBef>
                <a:spcPts val="4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外科感染（</a:t>
            </a:r>
            <a:r>
              <a:rPr b="0" lang="en-US" sz="3200" spc="-1" strike="noStrike">
                <a:solidFill>
                  <a:srgbClr val="046ca6"/>
                </a:solidFill>
                <a:latin typeface="华文新魏"/>
              </a:rPr>
              <a:t>surgical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需要手术治疗的感染性疾病和发生在手术、创伤后的感染</a:t>
            </a:r>
            <a:endParaRPr b="0" lang="en-US" sz="28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病菌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窒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若为四肢的病变，应抬高患肢，以减轻疼痛</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进食困难者遵医嘱补液维持营养和体液平衡</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口底、颌下、颈部蜂窝织炎者应注意呼吸状况，若有呼吸急促、呼吸困难、窒息等症状，应及时给予吸氧或辅助通气等急救措施</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产气性皮下蜂窝织炎者应采取隔离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护理措施参见“疖”和“痈”</a:t>
            </a: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87280" y="2276640"/>
            <a:ext cx="676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四、急性淋巴管炎和急性淋巴结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淋巴管炎（</a:t>
            </a:r>
            <a:r>
              <a:rPr b="0" lang="en-US" sz="3600" spc="-1" strike="noStrike">
                <a:solidFill>
                  <a:srgbClr val="046ca6"/>
                </a:solidFill>
                <a:latin typeface="华文新魏"/>
              </a:rPr>
              <a:t>acute lymphangiti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致病菌经破损的皮肤、黏膜，或其他感染灶侵入淋巴管，引起淋巴管及其周围组织的急性炎症。急性淋巴管波及所属淋巴结时，即为急性淋巴结炎</a:t>
            </a:r>
            <a:r>
              <a:rPr b="0" lang="en-US" sz="3200" spc="-1" strike="noStrike">
                <a:solidFill>
                  <a:srgbClr val="046ca6"/>
                </a:solidFill>
                <a:latin typeface="华文新魏"/>
              </a:rPr>
              <a:t>(acute lymphadenitis)</a:t>
            </a:r>
            <a:r>
              <a:rPr b="0" lang="zh-CN" sz="3200" spc="-1" strike="noStrike">
                <a:solidFill>
                  <a:srgbClr val="046ca6"/>
                </a:solidFill>
                <a:latin typeface="华文新魏"/>
              </a:rPr>
              <a:t>。主要致病菌为乙型溶血性链球菌、金黄色葡萄球菌等</a:t>
            </a:r>
            <a:endParaRPr b="0" lang="en-US" sz="32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网状淋巴管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管状淋巴管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淋巴结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反应</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液细菌培养</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是否有皮肤或黏膜损伤、口腔溃疡、鼻窦炎、足癣，以及疖、痈、急性蜂窝织炎等原发感染</a:t>
            </a:r>
            <a:endParaRPr b="0" lang="en-US" sz="2800" spc="-1" strike="noStrike">
              <a:solidFill>
                <a:srgbClr val="046ca6"/>
              </a:solidFill>
              <a:latin typeface="华文新魏"/>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由于病情发展迅速，局部肿痛和发热可影响患者的工作和生活，导致紧张不安。为了预防交叉感染，接触丹毒患者或换药前后需要洗手消毒，患者可有被孤立的感觉</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脓毒症</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知识缺乏</a:t>
            </a:r>
            <a:r>
              <a:rPr b="0" lang="en-US" sz="3200" spc="-1" strike="noStrike">
                <a:solidFill>
                  <a:srgbClr val="046ca6"/>
                </a:solidFill>
                <a:latin typeface="华文新魏"/>
              </a:rPr>
              <a:t>  </a:t>
            </a:r>
            <a:r>
              <a:rPr b="0" lang="zh-CN" sz="3200" spc="-1" strike="noStrike">
                <a:solidFill>
                  <a:srgbClr val="046ca6"/>
                </a:solidFill>
                <a:latin typeface="华文新魏"/>
              </a:rPr>
              <a:t>缺乏预防感染的知识</a:t>
            </a:r>
            <a:endParaRPr b="0" lang="en-US" sz="3200" spc="-1" strike="noStrike">
              <a:solidFill>
                <a:srgbClr val="046ca6"/>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卧床休息，肢体抬高</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外敷药物或全身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肿切开引流后及时伤口换药</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接触丹毒患者或换药后必须洗手消毒，以防交叉感染</a:t>
            </a:r>
            <a:endParaRPr b="0" lang="en-US" sz="3200" spc="-1" strike="noStrike">
              <a:solidFill>
                <a:srgbClr val="046ca6"/>
              </a:solidFill>
              <a:latin typeface="华文新魏"/>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的护理</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的分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致病菌种类和病变性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特异性感染</a:t>
            </a:r>
            <a:r>
              <a:rPr b="0" lang="en-US" sz="2800" spc="-1" strike="noStrike">
                <a:solidFill>
                  <a:srgbClr val="046ca6"/>
                </a:solidFill>
                <a:latin typeface="华文新魏"/>
              </a:rPr>
              <a:t>(nonspecific infection)</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异性感染</a:t>
            </a:r>
            <a:r>
              <a:rPr b="0" lang="en-US" sz="2800" spc="-1" strike="noStrike">
                <a:solidFill>
                  <a:srgbClr val="046ca6"/>
                </a:solidFill>
                <a:latin typeface="华文新魏"/>
              </a:rPr>
              <a:t>(specific infection)</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病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感染（</a:t>
            </a:r>
            <a:r>
              <a:rPr b="0" lang="en-US" sz="2800" spc="-1" strike="noStrike">
                <a:solidFill>
                  <a:srgbClr val="046ca6"/>
                </a:solidFill>
                <a:latin typeface="华文新魏"/>
              </a:rPr>
              <a:t>acute infection</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感染（</a:t>
            </a:r>
            <a:r>
              <a:rPr b="0" lang="en-US" sz="2800" spc="-1" strike="noStrike">
                <a:solidFill>
                  <a:srgbClr val="046ca6"/>
                </a:solidFill>
                <a:latin typeface="华文新魏"/>
              </a:rPr>
              <a:t>chronic infection </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亚急性感染（</a:t>
            </a:r>
            <a:r>
              <a:rPr b="0" lang="en-US" sz="2800" spc="-1" strike="noStrike">
                <a:solidFill>
                  <a:srgbClr val="046ca6"/>
                </a:solidFill>
                <a:latin typeface="华文新魏"/>
              </a:rPr>
              <a:t>subacute infection</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日常生活中应注意皮肤清洁，及时处理小创口；积极治疗足癣、溃疡、鼻窦炎等疾病，以预防急性淋巴管炎和淋巴结炎发生</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护理措施参见“疖”和“痈”</a:t>
            </a:r>
            <a:endParaRPr b="0" lang="en-US" sz="32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二节</a:t>
            </a:r>
            <a:r>
              <a:rPr b="0" lang="en-US" sz="4800" spc="-1" strike="noStrike">
                <a:solidFill>
                  <a:srgbClr val="ffffff"/>
                </a:solidFill>
                <a:latin typeface="华文新魏"/>
              </a:rPr>
              <a:t>  </a:t>
            </a:r>
            <a:r>
              <a:rPr b="0" lang="zh-CN" sz="4800" spc="-1" strike="noStrike">
                <a:solidFill>
                  <a:srgbClr val="ffffff"/>
                </a:solidFill>
                <a:latin typeface="华文新魏"/>
              </a:rPr>
              <a:t>手部急性化脓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常见的手部急性化脓性感染包括甲沟炎、指头炎、腱鞘炎、滑囊炎和掌深间隙感染。</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沟炎（</a:t>
            </a:r>
            <a:r>
              <a:rPr b="0" lang="en-US" sz="3600" spc="-1" strike="noStrike">
                <a:solidFill>
                  <a:srgbClr val="046ca6"/>
                </a:solidFill>
                <a:latin typeface="华文新魏"/>
              </a:rPr>
              <a:t>paronychia</a:t>
            </a:r>
            <a:r>
              <a:rPr b="0" lang="zh-CN" sz="3600" spc="-1" strike="noStrike">
                <a:solidFill>
                  <a:srgbClr val="046ca6"/>
                </a:solidFill>
                <a:latin typeface="华文新魏"/>
              </a:rPr>
              <a:t>）是指甲沟或其周围组织的感染。</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头炎（</a:t>
            </a:r>
            <a:r>
              <a:rPr b="0" lang="en-US" sz="3600" spc="-1" strike="noStrike">
                <a:solidFill>
                  <a:srgbClr val="046ca6"/>
                </a:solidFill>
                <a:latin typeface="华文新魏"/>
              </a:rPr>
              <a:t>felon</a:t>
            </a:r>
            <a:r>
              <a:rPr b="0" lang="zh-CN" sz="3600" spc="-1" strike="noStrike">
                <a:solidFill>
                  <a:srgbClr val="046ca6"/>
                </a:solidFill>
                <a:latin typeface="华文新魏"/>
              </a:rPr>
              <a:t>）是指末节手指掌面皮下组织的化脓性感染。</a:t>
            </a:r>
            <a:endParaRPr b="0" lang="en-US" sz="36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沟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区有波动，且出现白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半环形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向深层蔓延可形成指头炎或指甲下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发展为慢性甲沟炎或慢性指骨骨髓炎</a:t>
            </a:r>
            <a:endParaRPr b="0" lang="en-US" sz="28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头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指末节轻度肿、红、剌痛、跳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治疗不及时，常可引起指骨缺血性坏死，形成慢性骨髓炎</a:t>
            </a:r>
            <a:endParaRPr b="0" lang="en-US" sz="28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化脓性腱鞘炎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指疼痛、肿胀，以中、近节为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发展迅速，若治疗不及时，感染可向掌侧深部蔓延，导致肌膜破坏而丧失手指功能</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化脓性滑囊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桡侧化脓性滑囊炎表现为拇指肿胀、不能外展和伸直，拇指中节及大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尺侧化脓性滑囊炎表现为小指肿胀不能伸，环指呈半屈状，小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掌深间隙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虎口肿胀、疼痛，拇指、示指微屈，活动时疼痛加剧，掌心肿胀变平</a:t>
            </a: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2"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白细胞计数和中性粒细胞比例增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菌培养：可采集脓液作细菌培养，检测致病菌种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摄片可明确有无指骨坏死。手掌的超声波检查可显示肿胀腱鞘和积存的液体</a:t>
            </a:r>
            <a:endParaRPr b="0" lang="en-US" sz="28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5"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手部有无轻微的刺伤、割伤、剪指甲过深、逆剥新皮倒刺、手足癣等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手部创伤时间、部位、治疗过程和康复情况等</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835280" y="2276640"/>
            <a:ext cx="5594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第一节</a:t>
            </a:r>
            <a:r>
              <a:rPr b="1" lang="en-US" sz="4800" spc="-1" strike="noStrike">
                <a:solidFill>
                  <a:srgbClr val="ffffff"/>
                </a:solidFill>
                <a:latin typeface="华文新魏"/>
              </a:rPr>
              <a:t>  </a:t>
            </a:r>
            <a:r>
              <a:rPr b="1" lang="zh-CN" sz="4800" spc="-1" strike="noStrike">
                <a:solidFill>
                  <a:srgbClr val="ffffff"/>
                </a:solidFill>
                <a:latin typeface="华文新魏"/>
              </a:rPr>
              <a:t>浅部软组织化脓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8"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局部热敷、理疗、外敷鱼石脂软膏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后期、已形成脓肿者，尽早切开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1"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炎症刺激、局部组织肿胀、压迫神经纤维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指骨坏死、肌腱坏死、手功能障碍</a:t>
            </a:r>
            <a:endParaRPr b="0" lang="en-US" sz="32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4"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制动并抬高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换药时，操作轻柔、仔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患者自我缓解疼痛，以分散其注意力为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提供安静、舒适的休息环境，按医嘱及时、准确使用镇定止痛药</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7"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的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药物敏感史，遵医嘱及时、准确应用抗菌药物，并根据细菌培养、药敏试验结果及创面变化，及时调整用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肿切开者，应观察伤口引流情况，引流物的性状、颜色及量等，及时更换敷料</a:t>
            </a:r>
            <a:endParaRPr b="0" lang="en-US" sz="28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50"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手部局部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监测体温、脉搏、血压的变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功能锻炼</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99640" y="2276640"/>
            <a:ext cx="72010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三节</a:t>
            </a:r>
            <a:r>
              <a:rPr b="0" lang="en-US" sz="4800" spc="-1" strike="noStrike">
                <a:solidFill>
                  <a:srgbClr val="ffffff"/>
                </a:solidFill>
                <a:latin typeface="华文新魏"/>
              </a:rPr>
              <a:t>  </a:t>
            </a:r>
            <a:r>
              <a:rPr b="0" lang="zh-CN" sz="4800" spc="-1" strike="noStrike">
                <a:solidFill>
                  <a:srgbClr val="ffffff"/>
                </a:solidFill>
                <a:latin typeface="华文新魏"/>
              </a:rPr>
              <a:t>全身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全身性感染（</a:t>
            </a:r>
            <a:r>
              <a:rPr b="0" lang="en-US" sz="3600" spc="-1" strike="noStrike">
                <a:solidFill>
                  <a:srgbClr val="046ca6"/>
                </a:solidFill>
                <a:latin typeface="华文新魏"/>
              </a:rPr>
              <a:t>systematic infection</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指致病菌侵入人体血液循环，并在体内生长繁殖或产生毒素而引起严重的全身性感染或中毒症状，通常指脓毒症（</a:t>
            </a:r>
            <a:r>
              <a:rPr b="0" lang="en-US" sz="3200" spc="-1" strike="noStrike">
                <a:solidFill>
                  <a:srgbClr val="046ca6"/>
                </a:solidFill>
                <a:latin typeface="华文新魏"/>
              </a:rPr>
              <a:t>sepsis</a:t>
            </a:r>
            <a:r>
              <a:rPr b="0" lang="zh-CN" sz="3200" spc="-1" strike="noStrike">
                <a:solidFill>
                  <a:srgbClr val="046ca6"/>
                </a:solidFill>
                <a:latin typeface="华文新魏"/>
              </a:rPr>
              <a:t>）和菌血症（</a:t>
            </a:r>
            <a:r>
              <a:rPr b="0" lang="en-US" sz="3200" spc="-1" strike="noStrike">
                <a:solidFill>
                  <a:srgbClr val="046ca6"/>
                </a:solidFill>
                <a:latin typeface="华文新魏"/>
              </a:rPr>
              <a:t>bacteremia</a:t>
            </a:r>
            <a:r>
              <a:rPr b="0" lang="zh-CN" sz="3200" spc="-1" strike="noStrike">
                <a:solidFill>
                  <a:srgbClr val="046ca6"/>
                </a:solidFill>
                <a:latin typeface="华文新魏"/>
              </a:rPr>
              <a:t>）</a:t>
            </a:r>
            <a:endParaRPr b="0" lang="en-US" sz="32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病情重、发展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现全身中毒症状，如骤起寒战后高热、头痛、头晕、恶心、呕吐、腹泻、食欲不振、甚至出现感染性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率加快、脉搏细速、呼吸急促或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脾可肿大，严重者出现黄疸和皮下出血瘀斑等</a:t>
            </a:r>
            <a:endParaRPr b="0" lang="en-US" sz="28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明显增高，一般常可达（</a:t>
            </a: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en-US" sz="2800" spc="-1" strike="noStrike" baseline="30000">
                <a:solidFill>
                  <a:srgbClr val="046ca6"/>
                </a:solidFill>
                <a:latin typeface="华文新魏"/>
              </a:rPr>
              <a:t>9</a:t>
            </a:r>
            <a:r>
              <a:rPr b="0" lang="en-US" sz="2800" spc="-1" strike="noStrike">
                <a:solidFill>
                  <a:srgbClr val="046ca6"/>
                </a:solidFill>
                <a:latin typeface="华文新魏"/>
              </a:rPr>
              <a:t>/L</a:t>
            </a:r>
            <a:r>
              <a:rPr b="0" lang="zh-CN" sz="2800" spc="-1" strike="noStrike">
                <a:solidFill>
                  <a:srgbClr val="046ca6"/>
                </a:solidFill>
                <a:latin typeface="华文新魏"/>
              </a:rPr>
              <a:t>以上，或降低、左移、幼稚型增多，出现毒性颗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有不同程度的酸中毒、氮质血症、溶血、尿中出现蛋白、血细胞、酮体等，代谢失衡和肝、肾受损征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战发热时抽血进行细菌培养呈阳性．较易发现细菌</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发病时间、治疗经过及病情发展</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浅部软组织化脓性感染</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部组织的化脓性感染是指发生于皮肤、皮下组织、淋巴管、淋巴结、肌间隙及其周围疏松结缔组织组织，由化脓性致病菌引起的各种感染。包括疖、痈、急性蜂窝织炎、急性淋巴管炎和急性淋巴结炎。</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处理原发病灶，去除伤口内坏死或明显挫伤的组织，切开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足量、联合应用抗菌药物，对真菌性败血症除应用抗菌药物外，全身应用抗真菌药物</a:t>
            </a:r>
            <a:endParaRPr b="0" lang="en-US" sz="28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提高全身抵抗力，包括反复多次输新鲜血，纠正水电解质平衡失调，补充维生素，进食高热量、易消化的食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症处理，如降温，抗体克治疗</a:t>
            </a:r>
            <a:endParaRPr b="0" lang="en-US" sz="2800" spc="-1" strike="noStrike">
              <a:solidFill>
                <a:srgbClr val="046ca6"/>
              </a:solidFill>
              <a:latin typeface="华文新魏"/>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 与全身性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营养摄入不足、消耗性代谢增加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 感染性休克</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密观察病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第四节 破伤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破伤风（</a:t>
            </a:r>
            <a:r>
              <a:rPr b="0" lang="en-US" sz="3600" spc="-1" strike="noStrike">
                <a:solidFill>
                  <a:srgbClr val="046ca6"/>
                </a:solidFill>
                <a:latin typeface="华文新魏"/>
              </a:rPr>
              <a:t>tetanu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由于破伤风杆菌侵入人体伤口并生长繁殖、产生痉挛毒素和溶血毒素等外毒素作用于机体导致病理生理变化，以进行性发展的肌肉强直为特征的急性特异性感染</a:t>
            </a:r>
            <a:endParaRPr b="0" lang="en-US" sz="3200" spc="-1" strike="noStrike">
              <a:solidFill>
                <a:srgbClr val="046ca6"/>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7-1A</a:t>
            </a:r>
            <a:endParaRPr b="0" lang="en-US" sz="3600" spc="-1" strike="noStrike">
              <a:solidFill>
                <a:srgbClr val="ffffff"/>
              </a:solidFill>
              <a:latin typeface="华文新魏"/>
            </a:endParaRPr>
          </a:p>
        </p:txBody>
      </p:sp>
      <p:sp>
        <p:nvSpPr>
          <p:cNvPr id="282"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3</a:t>
            </a:r>
            <a:r>
              <a:rPr b="0" lang="zh-CN" sz="3200" spc="-1" strike="noStrike">
                <a:solidFill>
                  <a:srgbClr val="046ca6"/>
                </a:solidFill>
                <a:latin typeface="华文新魏"/>
              </a:rPr>
              <a:t>岁，足底被钉子刺伤</a:t>
            </a:r>
            <a:r>
              <a:rPr b="0" lang="en-US" sz="3200" spc="-1" strike="noStrike">
                <a:solidFill>
                  <a:srgbClr val="046ca6"/>
                </a:solidFill>
                <a:latin typeface="华文新魏"/>
              </a:rPr>
              <a:t>7</a:t>
            </a:r>
            <a:r>
              <a:rPr b="0" lang="zh-CN" sz="3200" spc="-1" strike="noStrike">
                <a:solidFill>
                  <a:srgbClr val="046ca6"/>
                </a:solidFill>
                <a:latin typeface="华文新魏"/>
              </a:rPr>
              <a:t>天后，出现张口困难，全身肌肉强直性收缩，阵发性痉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6.8</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18</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10/70mmHg</a:t>
            </a:r>
            <a:r>
              <a:rPr b="0" lang="zh-CN" sz="3200" spc="-1" strike="noStrike">
                <a:solidFill>
                  <a:srgbClr val="046ca6"/>
                </a:solidFill>
                <a:latin typeface="华文新魏"/>
              </a:rPr>
              <a:t>。神志清楚，张口困难，苦笑面容，颈项强直，角弓反张，半握拳姿态。</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8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伏期</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为</a:t>
            </a:r>
            <a:r>
              <a:rPr b="0" lang="en-US" sz="2800" spc="-1" strike="noStrike">
                <a:solidFill>
                  <a:srgbClr val="046ca6"/>
                </a:solidFill>
                <a:latin typeface="华文新魏"/>
              </a:rPr>
              <a:t>6</a:t>
            </a:r>
            <a:r>
              <a:rPr b="0" lang="zh-CN" sz="2800" spc="-1" strike="noStrike">
                <a:solidFill>
                  <a:srgbClr val="046ca6"/>
                </a:solidFill>
                <a:latin typeface="华文新魏"/>
              </a:rPr>
              <a:t>～</a:t>
            </a:r>
            <a:r>
              <a:rPr b="0" lang="en-US" sz="2800" spc="-1" strike="noStrike">
                <a:solidFill>
                  <a:srgbClr val="046ca6"/>
                </a:solidFill>
                <a:latin typeface="华文新魏"/>
              </a:rPr>
              <a:t>12</a:t>
            </a:r>
            <a:r>
              <a:rPr b="0" lang="zh-CN" sz="2800" spc="-1" strike="noStrike">
                <a:solidFill>
                  <a:srgbClr val="046ca6"/>
                </a:solidFill>
                <a:latin typeface="华文新魏"/>
              </a:rPr>
              <a:t>天，平均为</a:t>
            </a:r>
            <a:r>
              <a:rPr b="0" lang="en-US" sz="2800" spc="-1" strike="noStrike">
                <a:solidFill>
                  <a:srgbClr val="046ca6"/>
                </a:solidFill>
                <a:latin typeface="华文新魏"/>
              </a:rPr>
              <a:t>7</a:t>
            </a:r>
            <a:r>
              <a:rPr b="0" lang="zh-CN" sz="2800" spc="-1" strike="noStrike">
                <a:solidFill>
                  <a:srgbClr val="046ca6"/>
                </a:solidFill>
                <a:latin typeface="华文新魏"/>
              </a:rPr>
              <a:t>天</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程一般为</a:t>
            </a: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前驱期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初起先有乏力、头晕、头痛、咀嚼肌酸胀，嚼肌无力，烦躁不安、打呵欠等前驱症状</a:t>
            </a:r>
            <a:endParaRPr b="0" lang="en-US" sz="2800" spc="-1" strike="noStrike">
              <a:solidFill>
                <a:srgbClr val="046ca6"/>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作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的肌肉收缩和阵发性痉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苦笑</a:t>
            </a:r>
            <a:r>
              <a:rPr b="0" lang="en-US" sz="2800" spc="-1" strike="noStrike">
                <a:solidFill>
                  <a:srgbClr val="046ca6"/>
                </a:solidFill>
                <a:latin typeface="华文新魏"/>
              </a:rPr>
              <a:t>”</a:t>
            </a:r>
            <a:r>
              <a:rPr b="0" lang="zh-CN" sz="2800" spc="-1" strike="noStrike">
                <a:solidFill>
                  <a:srgbClr val="046ca6"/>
                </a:solidFill>
                <a:latin typeface="华文新魏"/>
              </a:rPr>
              <a:t>面容、</a:t>
            </a:r>
            <a:r>
              <a:rPr b="0" lang="en-US" sz="2800" spc="-1" strike="noStrike">
                <a:solidFill>
                  <a:srgbClr val="046ca6"/>
                </a:solidFill>
                <a:latin typeface="华文新魏"/>
              </a:rPr>
              <a:t>“</a:t>
            </a:r>
            <a:r>
              <a:rPr b="0" lang="zh-CN" sz="2800" spc="-1" strike="noStrike">
                <a:solidFill>
                  <a:srgbClr val="046ca6"/>
                </a:solidFill>
                <a:latin typeface="华文新魏"/>
              </a:rPr>
              <a:t>角弓反张</a:t>
            </a:r>
            <a:r>
              <a:rPr b="0" lang="en-US" sz="2800" spc="-1" strike="noStrike">
                <a:solidFill>
                  <a:srgbClr val="046ca6"/>
                </a:solidFill>
                <a:latin typeface="华文新魏"/>
              </a:rPr>
              <a:t>”</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任何轻微的刺激如光线、声响、说话、吹风均可诱发</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神志始终清楚</a:t>
            </a:r>
            <a:endParaRPr b="0" lang="en-US" sz="2800" spc="-1" strike="noStrike">
              <a:solidFill>
                <a:srgbClr val="046ca6"/>
              </a:solidFill>
              <a:latin typeface="华文新魏"/>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渗出物作涂片检查可发现破伤风杆菌</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有无开放性损伤病史，是否及时进行彻底清创、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破伤风预防接种史等</a:t>
            </a:r>
            <a:endParaRPr b="0" lang="en-US" sz="2800" spc="-1" strike="noStrike">
              <a:solidFill>
                <a:srgbClr val="046ca6"/>
              </a:solidFill>
              <a:latin typeface="华文新魏"/>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一、疖</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士应注意观察患者的躯体语言</a:t>
            </a:r>
            <a:endParaRPr b="0" lang="en-US" sz="2800" spc="-1" strike="noStrike">
              <a:solidFill>
                <a:srgbClr val="046ca6"/>
              </a:solidFill>
              <a:latin typeface="华文新魏"/>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消除毒素来源（处理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和游离毒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破伤风抗毒素（</a:t>
            </a:r>
            <a:r>
              <a:rPr b="0" lang="en-US" sz="2800" spc="-1" strike="noStrike">
                <a:solidFill>
                  <a:srgbClr val="046ca6"/>
                </a:solidFill>
                <a:latin typeface="华文新魏"/>
              </a:rPr>
              <a:t>TAT</a:t>
            </a:r>
            <a:r>
              <a:rPr b="0" lang="zh-CN" sz="2800" spc="-1" strike="noStrike">
                <a:solidFill>
                  <a:srgbClr val="046ca6"/>
                </a:solidFill>
                <a:latin typeface="华文新魏"/>
              </a:rPr>
              <a:t>）：首次用</a:t>
            </a:r>
            <a:r>
              <a:rPr b="0" lang="en-US" sz="2800" spc="-1" strike="noStrike">
                <a:solidFill>
                  <a:srgbClr val="046ca6"/>
                </a:solidFill>
                <a:latin typeface="华文新魏"/>
              </a:rPr>
              <a:t>20000</a:t>
            </a:r>
            <a:r>
              <a:rPr b="0" lang="zh-CN" sz="2800" spc="-1" strike="noStrike">
                <a:solidFill>
                  <a:srgbClr val="046ca6"/>
                </a:solidFill>
                <a:latin typeface="华文新魏"/>
              </a:rPr>
              <a:t>～</a:t>
            </a:r>
            <a:r>
              <a:rPr b="0" lang="en-US" sz="2800" spc="-1" strike="noStrike">
                <a:solidFill>
                  <a:srgbClr val="046ca6"/>
                </a:solidFill>
                <a:latin typeface="华文新魏"/>
              </a:rPr>
              <a:t>50000U</a:t>
            </a:r>
            <a:r>
              <a:rPr b="0" lang="zh-CN" sz="2800" spc="-1" strike="noStrike">
                <a:solidFill>
                  <a:srgbClr val="046ca6"/>
                </a:solidFill>
                <a:latin typeface="华文新魏"/>
              </a:rPr>
              <a:t>肌内注射或加入</a:t>
            </a:r>
            <a:r>
              <a:rPr b="0" lang="en-US" sz="2800" spc="-1" strike="noStrike">
                <a:solidFill>
                  <a:srgbClr val="046ca6"/>
                </a:solidFill>
                <a:latin typeface="华文新魏"/>
              </a:rPr>
              <a:t>5%</a:t>
            </a:r>
            <a:r>
              <a:rPr b="0" lang="zh-CN" sz="2800" spc="-1" strike="noStrike">
                <a:solidFill>
                  <a:srgbClr val="046ca6"/>
                </a:solidFill>
                <a:latin typeface="华文新魏"/>
              </a:rPr>
              <a:t>葡萄糖溶液</a:t>
            </a:r>
            <a:r>
              <a:rPr b="0" lang="en-US" sz="2800" spc="-1" strike="noStrike">
                <a:solidFill>
                  <a:srgbClr val="046ca6"/>
                </a:solidFill>
                <a:latin typeface="华文新魏"/>
              </a:rPr>
              <a:t>500</a:t>
            </a:r>
            <a:r>
              <a:rPr b="0" lang="zh-CN" sz="2800" spc="-1" strike="noStrike">
                <a:solidFill>
                  <a:srgbClr val="046ca6"/>
                </a:solidFill>
                <a:latin typeface="华文新魏"/>
              </a:rPr>
              <a:t>～</a:t>
            </a:r>
            <a:r>
              <a:rPr b="0" lang="en-US" sz="2800" spc="-1" strike="noStrike">
                <a:solidFill>
                  <a:srgbClr val="046ca6"/>
                </a:solidFill>
                <a:latin typeface="华文新魏"/>
              </a:rPr>
              <a:t>1000ml</a:t>
            </a:r>
            <a:r>
              <a:rPr b="0" lang="zh-CN" sz="2800" spc="-1" strike="noStrike">
                <a:solidFill>
                  <a:srgbClr val="046ca6"/>
                </a:solidFill>
                <a:latin typeface="华文新魏"/>
              </a:rPr>
              <a:t>静脉缓慢滴入，不需连续使用。注射前进行皮肤过敏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人体破伤风免疫球蛋白：早期肌内注射一次，剂量为</a:t>
            </a:r>
            <a:r>
              <a:rPr b="0" lang="en-US" sz="2800" spc="-1" strike="noStrike">
                <a:solidFill>
                  <a:srgbClr val="046ca6"/>
                </a:solidFill>
                <a:latin typeface="华文新魏"/>
              </a:rPr>
              <a:t>3000</a:t>
            </a:r>
            <a:r>
              <a:rPr b="0" lang="zh-CN" sz="2800" spc="-1" strike="noStrike">
                <a:solidFill>
                  <a:srgbClr val="046ca6"/>
                </a:solidFill>
                <a:latin typeface="华文新魏"/>
              </a:rPr>
              <a:t>～</a:t>
            </a:r>
            <a:r>
              <a:rPr b="0" lang="en-US" sz="2800" spc="-1" strike="noStrike">
                <a:solidFill>
                  <a:srgbClr val="046ca6"/>
                </a:solidFill>
                <a:latin typeface="华文新魏"/>
              </a:rPr>
              <a:t>10000U</a:t>
            </a:r>
            <a:endParaRPr b="0" lang="en-US" sz="2800" spc="-1" strike="noStrike">
              <a:solidFill>
                <a:srgbClr val="046ca6"/>
              </a:solidFill>
              <a:latin typeface="华文新魏"/>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和解除痉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并发症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后早期彻底清创，改善局部循环，是预防的关键</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人工免疫</a:t>
            </a:r>
            <a:endParaRPr b="0" lang="en-US" sz="2800" spc="-1" strike="noStrike">
              <a:solidFill>
                <a:srgbClr val="046ca6"/>
              </a:solidFill>
              <a:latin typeface="华文新魏"/>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7-1B</a:t>
            </a:r>
            <a:endParaRPr b="0" lang="en-US" sz="3600" spc="-1" strike="noStrike">
              <a:solidFill>
                <a:srgbClr val="ffffff"/>
              </a:solidFill>
              <a:latin typeface="华文新魏"/>
            </a:endParaRPr>
          </a:p>
        </p:txBody>
      </p:sp>
      <p:sp>
        <p:nvSpPr>
          <p:cNvPr id="3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200" spc="-1" strike="noStrike">
                <a:solidFill>
                  <a:srgbClr val="046ca6"/>
                </a:solidFill>
                <a:latin typeface="华文新魏"/>
              </a:rPr>
              <a:t>该患者明确诊断为破伤风。患者反复出现口齿紧闭、无法进食、全身抽搐等症状。</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此时应如何观察和护理该患者？</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窒息的危险</a:t>
            </a:r>
            <a:r>
              <a:rPr b="0" lang="en-US" sz="3200" spc="-1" strike="noStrike">
                <a:solidFill>
                  <a:srgbClr val="046ca6"/>
                </a:solidFill>
                <a:latin typeface="华文新魏"/>
              </a:rPr>
              <a:t>  </a:t>
            </a:r>
            <a:r>
              <a:rPr b="0" lang="zh-CN" sz="3200" spc="-1" strike="noStrike">
                <a:solidFill>
                  <a:srgbClr val="046ca6"/>
                </a:solidFill>
                <a:latin typeface="华文新魏"/>
              </a:rPr>
              <a:t>与喉肌痉孪、声门紧闭及呼吸肌痉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受伤的危险</a:t>
            </a:r>
            <a:r>
              <a:rPr b="0" lang="en-US" sz="3200" spc="-1" strike="noStrike">
                <a:solidFill>
                  <a:srgbClr val="046ca6"/>
                </a:solidFill>
                <a:latin typeface="华文新魏"/>
              </a:rPr>
              <a:t>  </a:t>
            </a:r>
            <a:r>
              <a:rPr b="0" lang="zh-CN" sz="3200" spc="-1" strike="noStrike">
                <a:solidFill>
                  <a:srgbClr val="046ca6"/>
                </a:solidFill>
                <a:latin typeface="华文新魏"/>
              </a:rPr>
              <a:t>与肌肉强烈痉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营养摄入不足、能量消耗增加有关</a:t>
            </a:r>
            <a:endParaRPr b="0" lang="en-US" sz="3200" spc="-1" strike="noStrike">
              <a:solidFill>
                <a:srgbClr val="046ca6"/>
              </a:solidFill>
              <a:latin typeface="华文新魏"/>
            </a:endParaRPr>
          </a:p>
        </p:txBody>
      </p:sp>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环境要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减少外界刺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静脉输液通路通畅</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消毒隔离</a:t>
            </a:r>
            <a:endParaRPr b="0" lang="en-US" sz="2800" spc="-1" strike="noStrike">
              <a:solidFill>
                <a:srgbClr val="046ca6"/>
              </a:solidFill>
              <a:latin typeface="华文新魏"/>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 </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效排出呼吸道分泌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给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窒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备好气管切开包、人工呼吸机、抢救药品等，便于随时抢救</a:t>
            </a:r>
            <a:endParaRPr b="0" lang="en-US" sz="2800" spc="-1" strike="noStrike">
              <a:solidFill>
                <a:srgbClr val="046ca6"/>
              </a:solidFill>
              <a:latin typeface="华文新魏"/>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5" name=""/>
          <p:cNvSpPr txBox="1"/>
          <p:nvPr/>
        </p:nvSpPr>
        <p:spPr>
          <a:xfrm>
            <a:off x="25092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护患者，防止受伤</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患者坠床，使用带护栏的病床，必要时设专人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采用必要保护措施，必要时使用约束带固定患者，关节部位放置软垫，应用合适牙垫等防止患者自我伤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观察病情</a:t>
            </a:r>
            <a:endParaRPr b="0" lang="en-US" sz="2800" spc="-1" strike="noStrike">
              <a:solidFill>
                <a:srgbClr val="046ca6"/>
              </a:solidFill>
              <a:latin typeface="华文新魏"/>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8" name=""/>
          <p:cNvSpPr txBox="1"/>
          <p:nvPr/>
        </p:nvSpPr>
        <p:spPr>
          <a:xfrm>
            <a:off x="25092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营养</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人工冬眠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处理</a:t>
            </a:r>
            <a:endParaRPr b="0" lang="en-US" sz="3200" spc="-1" strike="noStrike">
              <a:solidFill>
                <a:srgbClr val="046ca6"/>
              </a:solidFill>
              <a:latin typeface="华文新魏"/>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21" name=""/>
          <p:cNvSpPr txBox="1"/>
          <p:nvPr/>
        </p:nvSpPr>
        <p:spPr>
          <a:xfrm>
            <a:off x="250920" y="1413000"/>
            <a:ext cx="8610480" cy="487656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身体外伤，避免不洁生产</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儿童定期接受自动免疫</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发生下列情况及时就医和注射破伤风抗毒素</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较深伤口和深部感染，如锈钉刺伤、化脓性中耳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虽然浅，但沾染人畜粪便或污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未经严格消毒的急产或流产等</a:t>
            </a:r>
            <a:endParaRPr b="0" lang="en-US" sz="2800" spc="-1" strike="noStrike">
              <a:solidFill>
                <a:srgbClr val="046ca6"/>
              </a:solidFill>
              <a:latin typeface="华文新魏"/>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疖（</a:t>
            </a:r>
            <a:r>
              <a:rPr b="0" lang="en-US" sz="3600" spc="-1" strike="noStrike">
                <a:solidFill>
                  <a:srgbClr val="046ca6"/>
                </a:solidFill>
                <a:latin typeface="华文新魏"/>
              </a:rPr>
              <a:t>furuncle</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指单个毛囊及其所属皮脂腺的急性化脓性感染，好发于头、面、背、腋窝、腹股沟、会阴等毛囊及皮脂腺丰富的部位。致病菌为金黄色葡萄球菌</a:t>
            </a:r>
            <a:endParaRPr b="0" lang="en-US" sz="32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外科感染分类</a:t>
            </a:r>
            <a:r>
              <a:rPr b="0" lang="en-US" sz="2400" spc="-1" strike="noStrike">
                <a:solidFill>
                  <a:srgbClr val="046ca6"/>
                </a:solidFill>
                <a:latin typeface="华文新魏"/>
              </a:rPr>
              <a:t>  </a:t>
            </a:r>
            <a:r>
              <a:rPr b="0" lang="zh-CN" sz="2400" spc="-1" strike="noStrike">
                <a:solidFill>
                  <a:srgbClr val="046ca6"/>
                </a:solidFill>
                <a:latin typeface="华文新魏"/>
              </a:rPr>
              <a:t>按致病菌种类分类分为非特异性感染和特异性感染。按感染病程分类分为急性感染、慢性感染和亚急性感染</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部组织的化脓性感染</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与皮肤不洁、擦伤、环境温度较高或机体抗感染能力降低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包括疖、痈、急性蜂窝织炎、急性淋巴管炎和急性淋巴结炎。主要为局部表现，感染严重可出现全身症状。面部危险三角区的疖或唇痈被挤压或处理不当时可能引起化脓性海绵状静脉窦炎。口底、颌下和颈部的急性蜂窝织炎可引起呼吸困难窒息。由厌氧菌引起的蜂窝织炎在局部可有捻发音。急性网状淋巴管炎（丹毒）反复发作可导致象皮肿。急性管状淋巴管炎患者可有皮下“红线”</a:t>
            </a:r>
            <a:endParaRPr b="0" lang="en-US" sz="2400" spc="-1" strike="noStrike">
              <a:solidFill>
                <a:srgbClr val="046ca6"/>
              </a:solidFill>
              <a:latin typeface="华文新魏"/>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初期进行局部理疗或外敷药物，避免炎症扩散。脓肿形成应及时切开引流。必要时遵医嘱给予抗生素</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观察病情变化，对症处理，做好伤口换药和切开引流的护理，做好健康教育，指导患者注意个人卫生，提高机体抵抗力</a:t>
            </a:r>
            <a:endParaRPr b="0" lang="en-US" sz="2800" spc="-1" strike="noStrike">
              <a:solidFill>
                <a:srgbClr val="046ca6"/>
              </a:solidFill>
              <a:latin typeface="华文新魏"/>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部急性化脓性感染</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常发生在微小刺伤、挫伤、（逆剥）或指甲剪得过深等损伤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甲沟炎和指头炎一般仅有局部疼痛、肿胀等表现。化脓性腱鞘炎、化脓性滑囊炎和掌深间隙感染时除了手部疼痛、肿胀、手指活动受限等表现外，还可有全身感染症状</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发病早期局部热敷、理疗和外敷药物治疗，脓肿形成后及时切开引流，必要时遵医嘱积极应用抗生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制动并抬高患肢，缓解疼痛，控制感染，密切观察病情，进行手部功能锻炼</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性感染</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原因是致病菌的量大、毒力强和（或）人体抵抗力下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表现为突发寒战、高热、头痛、头晕、恶心、呕吐、心率加快、脉搏细速、呼吸急促等。严重者可出现感染性休克和多器官功能不全甚至衰竭</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处理原发感染灶、积极控制感染、全身支持疗法和对症处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严密监测病情，严格执行无菌技术，给予营养支持，充分休息，对症处理</a:t>
            </a:r>
            <a:endParaRPr b="0" lang="en-US" sz="2400" spc="-1" strike="noStrike">
              <a:solidFill>
                <a:srgbClr val="046ca6"/>
              </a:solidFill>
              <a:latin typeface="华文新魏"/>
            </a:endParaRPr>
          </a:p>
        </p:txBody>
      </p:sp>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破伤风</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破伤风杆菌侵入人体伤口引起的一种特异性感染。伤口缺氧是非常重要的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潜伏期</a:t>
            </a:r>
            <a:r>
              <a:rPr b="0" lang="en-US" sz="2400" spc="-1" strike="noStrike">
                <a:solidFill>
                  <a:srgbClr val="046ca6"/>
                </a:solidFill>
                <a:latin typeface="华文新魏"/>
              </a:rPr>
              <a:t>6</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前驱症状以张口不便为特点。发作期典型症状主要是肌肉持续性收缩和阵发性痉挛</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清除毒素来源、中和游离毒素、控制和解除痉挛和防治并发症。预防可采用自动免疫法和被动免疫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准备适当环境，减少外界刺激，补液和严格消毒隔离；做好呼吸道管理；防止受伤；加强营养；人工冬眠护理；对症处理；对患者和健康人群进行健康教育</a:t>
            </a:r>
            <a:endParaRPr b="0" lang="en-US" sz="2400" spc="-1" strike="noStrike">
              <a:solidFill>
                <a:srgbClr val="046ca6"/>
              </a:solidFill>
              <a:latin typeface="华文新魏"/>
            </a:endParaRPr>
          </a:p>
        </p:txBody>
      </p:sp>
      <p:sp>
        <p:nvSpPr>
          <p:cNvPr id="3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有红、肿、痛、锥形隆起，化脓后有黄白色小脓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位于面部，尤其鼻、上唇及其周围</a:t>
            </a:r>
            <a:r>
              <a:rPr b="0" lang="en-US" sz="2800" spc="-1" strike="noStrike">
                <a:solidFill>
                  <a:srgbClr val="046ca6"/>
                </a:solidFill>
                <a:latin typeface="华文新魏"/>
              </a:rPr>
              <a:t>“</a:t>
            </a:r>
            <a:r>
              <a:rPr b="0" lang="zh-CN" sz="2800" spc="-1" strike="noStrike">
                <a:solidFill>
                  <a:srgbClr val="046ca6"/>
                </a:solidFill>
                <a:latin typeface="华文新魏"/>
              </a:rPr>
              <a:t>危险三角区</a:t>
            </a:r>
            <a:r>
              <a:rPr b="0" lang="en-US" sz="2800" spc="-1" strike="noStrike">
                <a:solidFill>
                  <a:srgbClr val="046ca6"/>
                </a:solidFill>
                <a:latin typeface="华文新魏"/>
              </a:rPr>
              <a:t>”</a:t>
            </a:r>
            <a:r>
              <a:rPr b="0" lang="zh-CN" sz="2800" spc="-1" strike="noStrike">
                <a:solidFill>
                  <a:srgbClr val="046ca6"/>
                </a:solidFill>
                <a:latin typeface="华文新魏"/>
              </a:rPr>
              <a:t>的疖禁止挤压，以免引起颅内感染症状</a:t>
            </a: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8-11T03:40:56Z</dcterms:modified>
  <cp:revision>99</cp:revision>
  <dc:subject/>
  <dc:title>内科护理学</dc:title>
</cp:coreProperties>
</file>